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5D3-262F-4861-997C-40EEA5FB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586-AAA0-45C0-8D4E-5ACE587A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0EA-205D-4836-B68B-49190D4F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D5D-8A6C-43EB-81F1-94E7C513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72B-3494-47C6-B0CF-EFD96A5E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9BC-A19E-4E2F-8115-13624550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A6D-C407-46FF-B1BB-FA058178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F7B-6CE6-4EFB-9747-FC33366C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636-32F9-4606-A67A-4D676A5F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FBC-3CBE-42A3-BE02-A14A0954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7AA-3473-4265-A55E-1AC3E03A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F96-3759-430F-8097-707F6099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53AA-541D-49E5-A7F0-D088D870921E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AA55-3C43-42F2-8CCB-2DE734DBC6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5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ели надеж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D96-EC3B-4E46-9955-1D2FE72C3D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Долговечность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ev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 сохранять работоспособное состояние до наступления предельного состояния при установленной системе технического обслуживания и ремо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Сохраняем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 сохранять в заданных пределах значения параметров, характеризующих способности объекта выполнять требуемые функции в течение и после хранения и (или) транспортир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077-2516-4099-8BA5-0184A86D23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28400"/>
            <a:ext cx="853272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 области использования показатели надежности могут подразделяться на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нормативные и оценочны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Нормативны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показатели надежности, регламентированные в нормативно- технической или конструкторской докум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оценочны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тносятся показатели, используемые для различных сравнительных оценок при научно-исследовательских и проектно-технологических разработках. К оценочным относятся фактические значения показателей надежности опытных образ­цов и серийной продукции, получаемые по результатам испытаний по данным эксплуа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156-8BD9-4AB3-90CA-F4C7CDBECE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353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области распространения показатели надежности подразделяются н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индивидуальные и групповы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индивидуальны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тносятся такие показатели надежности, используя которые можно по результатам испытаний или эксплуатации делать вывод о соответствии или не соответствии данного объекта регламентированным требованиям по надеж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6B1-2698-432A-B908-72F6E0606C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казатели, на основе которых вывод о соответствии регламентированным требованиям можно делать только относительно некоторой совокупности (партии) изделий, называют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групповыми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Как правило, индивидуальные показатели надежности являются одновременно и норматив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380-B110-47AF-ABEA-AE0B97FDC4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63280" y="0"/>
            <a:ext cx="52578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менклатура показателей надежно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5477040" cy="65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020-0244-48EF-AB1F-94117F8A11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475200"/>
            <a:ext cx="741708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Показатель надеж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measur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— количественная характеристика одного или нескольких свойств, составляющих надежность объ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065400"/>
            <a:ext cx="77770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ения показателей надежности могут быть нормативными и фактическими и определяться расчетным методом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расчетный показатель надеж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по данным испытаний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экспериментальный показа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по данным эксплуатации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эксплуатационный показа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или путем экстраполирования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экстраполированный показа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21E-180B-4F33-9D30-94BAB17B6C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438560"/>
            <a:ext cx="828036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оказателей надежности используются две формы представления: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вероятностная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статист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Вероятностная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 обычно бывает удобнее при априорных аналитических расчетах наде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Статист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при экспериментальном исследовании надежности технических систем. Кроме того, оказывается, что одни показатели лучше интерпретируются в вероятностных терминах, а другие — в статистиче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B28-D768-4A29-8B3C-38BE950AC4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66640" y="1531800"/>
            <a:ext cx="28782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казателей надеж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32720" cy="443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11560" y="4684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76360" y="476280"/>
          <a:ext cx="6480360" cy="455760"/>
        </p:xfrm>
        <a:graphic>
          <a:graphicData uri="http://schemas.openxmlformats.org/drawingml/2006/table">
            <a:tbl>
              <a:tblPr/>
              <a:tblGrid>
                <a:gridCol w="6480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ификация показателей наде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078360" y="483660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6EE-1880-435F-88E3-1778073FB3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400" y="285480"/>
            <a:ext cx="8535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уществуют комплексные показатели, характеризующие несколько свойств, составляющих надежность объ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Единичный показатель надежност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 reliability measure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характеризующий одно из свойств, составляющих надежность объ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Комплексный показатель надежност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grated reliability measure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характеризующий несколько свойств, составляющих надежность объ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4AD-F9C9-4E4B-B877-5E248F2323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Расчетный показатель надеж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t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значения которого определяются расчетным метод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Экспериментальный показатель надеж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точечная или интервальная оценка которого определяется по данным испыта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Эксплуатационный показатель надеж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точечная или интервальная оценка которого определяется по данным эксплуа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FB2-A2A7-42F7-A80C-1067ED15C7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5280" y="691920"/>
            <a:ext cx="77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Экстраполированный показатель надеж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polat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точечная или интервальная оценка которого определяется на основании результатов расчетов, испытаний и (или) эксплуатационных данных путем экстраполирования на другую продолжительность эксплуатации и другие условия эксплуа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8C4-28FE-4D17-A2EC-C407B44CD5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71680" y="357120"/>
            <a:ext cx="8072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6912000" cy="24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187280" y="404640"/>
          <a:ext cx="6697800" cy="820800"/>
        </p:xfrm>
        <a:graphic>
          <a:graphicData uri="http://schemas.openxmlformats.org/drawingml/2006/table">
            <a:tbl>
              <a:tblPr/>
              <a:tblGrid>
                <a:gridCol w="6697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ификация свойств надежности машин и их элем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800" y="33094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F3A-D94F-416F-8858-7C5A59E92C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дежность в общем случае — комплексное свойство, включающее такие понятия, как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безотказность,долговечность, ремонтопригодность, сохраняем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конкретных объектов и условий их эксплуатации эти свойства могут иметь различную относительную значим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Безотказ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 operatio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 непрерывно сохранять работоспособное состояние в течение некоторого времени или наработ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Ремонтопригод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, заключающееся в приспособленности к поддержанию и восстановлению работоспособности состояния путем технического обслуживания и ремо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959-043D-41BB-97C0-42CFE08A30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2-11T09:07:12Z</dcterms:modified>
  <cp:revision>21</cp:revision>
  <dc:subject/>
  <dc:title>Лекция  № 11 </dc:title>
</cp:coreProperties>
</file>